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9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11.wmf" ContentType="image/x-wmf"/>
  <Override PartName="/ppt/media/image7.png" ContentType="image/png"/>
  <Override PartName="/ppt/media/image22.jpeg" ContentType="image/jpeg"/>
  <Override PartName="/ppt/media/image6.wmf" ContentType="image/x-wmf"/>
  <Override PartName="/ppt/media/image23.wmf" ContentType="image/x-wmf"/>
  <Override PartName="/ppt/media/image5.png" ContentType="image/png"/>
  <Override PartName="/ppt/media/image10.png" ContentType="image/png"/>
  <Override PartName="/ppt/media/image21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3.jpeg" ContentType="image/jpeg"/>
  <Override PartName="/ppt/media/image17.wmf" ContentType="image/x-wmf"/>
  <Override PartName="/ppt/media/image15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BC05-C3F0-4BBC-95B8-6B417AB8F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C015-44DC-444A-8F66-3D5809694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D2B7-6B32-4207-8D48-C4650F019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3963-54C5-489D-A8F8-79486A117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C53D-FE83-424B-957D-8A378793F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51EA-6591-4972-98F0-9085A6DF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9E9E-BBE4-44AE-A4EE-711302C7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6689-7F26-4A56-8721-81FC3E6F4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D9EE-2623-43CD-B3D8-F0B05D2E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6F1-BA6C-47F5-A350-9A9EFE820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99000-E429-4BED-BDA9-97182749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28E5-9BC1-4BAA-B78B-B158825B0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DCCA0-A5C8-40ED-B0CA-4E7F5989CC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wmf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wmf"/><Relationship Id="rId9" Type="http://schemas.openxmlformats.org/officeDocument/2006/relationships/image" Target="../media/image10.png"/><Relationship Id="rId10" Type="http://schemas.openxmlformats.org/officeDocument/2006/relationships/image" Target="../media/image11.wmf"/><Relationship Id="rId11" Type="http://schemas.openxmlformats.org/officeDocument/2006/relationships/image" Target="../media/image12.jpeg"/><Relationship Id="rId12" Type="http://schemas.openxmlformats.org/officeDocument/2006/relationships/image" Target="../media/image13.jpeg"/><Relationship Id="rId13" Type="http://schemas.openxmlformats.org/officeDocument/2006/relationships/image" Target="../media/image14.jpeg"/><Relationship Id="rId14" Type="http://schemas.openxmlformats.org/officeDocument/2006/relationships/image" Target="../media/image15.jpeg"/><Relationship Id="rId15" Type="http://schemas.openxmlformats.org/officeDocument/2006/relationships/image" Target="../media/image16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9.wmf"/><Relationship Id="rId19" Type="http://schemas.openxmlformats.org/officeDocument/2006/relationships/image" Target="../media/image20.wmf"/><Relationship Id="rId20" Type="http://schemas.openxmlformats.org/officeDocument/2006/relationships/image" Target="../media/image21.wmf"/><Relationship Id="rId2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Geometry Assessment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C:\Documents and Settings\afloyd\Local Settings\Temporary Internet Files\Content.IE5\6TCFAPSX\MCBD05091_0000[1].wmf"/>
          <p:cNvPicPr/>
          <p:nvPr/>
        </p:nvPicPr>
        <p:blipFill>
          <a:blip r:embed="rId1"/>
          <a:stretch/>
        </p:blipFill>
        <p:spPr>
          <a:xfrm>
            <a:off x="2743200" y="2286000"/>
            <a:ext cx="3780000" cy="34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4" descr="C:\Documents and Settings\afloyd\Local Settings\Temporary Internet Files\Content.IE5\AX1YFID4\MPj03900630000[1].jpg"/>
          <p:cNvPicPr/>
          <p:nvPr/>
        </p:nvPicPr>
        <p:blipFill>
          <a:blip r:embed="rId1"/>
          <a:srcRect l="0" t="0" r="0" b="11112"/>
          <a:stretch/>
        </p:blipFill>
        <p:spPr>
          <a:xfrm>
            <a:off x="2590920" y="457200"/>
            <a:ext cx="205740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C:\Documents and Settings\afloyd\Local Settings\Temporary Internet Files\Content.IE5\104NLPOT\MPj04388070000[1].jpg"/>
          <p:cNvPicPr/>
          <p:nvPr/>
        </p:nvPicPr>
        <p:blipFill>
          <a:blip r:embed="rId2"/>
          <a:stretch/>
        </p:blipFill>
        <p:spPr>
          <a:xfrm>
            <a:off x="6553080" y="990720"/>
            <a:ext cx="1806840" cy="1371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7" descr="C:\Documents and Settings\afloyd\Local Settings\Temporary Internet Files\Content.IE5\AX1YFID4\MPj04339910000[1].jpg"/>
          <p:cNvPicPr/>
          <p:nvPr/>
        </p:nvPicPr>
        <p:blipFill>
          <a:blip r:embed="rId3"/>
          <a:stretch/>
        </p:blipFill>
        <p:spPr>
          <a:xfrm>
            <a:off x="2286000" y="2133720"/>
            <a:ext cx="2514600" cy="18856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ort the 3-Dimensional Sh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C:\Documents and Settings\afloyd\Local Settings\Temporary Internet Files\Content.IE5\ATUNA1IJ\MCj04347690000[1].png"/>
          <p:cNvPicPr/>
          <p:nvPr/>
        </p:nvPicPr>
        <p:blipFill>
          <a:blip r:embed="rId4"/>
          <a:stretch/>
        </p:blipFill>
        <p:spPr>
          <a:xfrm>
            <a:off x="5715000" y="22096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C:\Documents and Settings\afloyd\Local Settings\Temporary Internet Files\Content.IE5\UJMNEHA3\MCj03000730000[1].wmf"/>
          <p:cNvPicPr/>
          <p:nvPr/>
        </p:nvPicPr>
        <p:blipFill>
          <a:blip r:embed="rId5"/>
          <a:stretch/>
        </p:blipFill>
        <p:spPr>
          <a:xfrm>
            <a:off x="7848720" y="685800"/>
            <a:ext cx="1066680" cy="1093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2" descr="C:\Documents and Settings\afloyd\Local Settings\Temporary Internet Files\Content.IE5\MPCRYLM5\MCj04404010000[1].png"/>
          <p:cNvPicPr/>
          <p:nvPr/>
        </p:nvPicPr>
        <p:blipFill>
          <a:blip r:embed="rId6"/>
          <a:stretch/>
        </p:blipFill>
        <p:spPr>
          <a:xfrm>
            <a:off x="0" y="457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4" descr="C:\Documents and Settings\afloyd\Local Settings\Temporary Internet Files\Content.IE5\2XCDIHAD\MCj04363440000[1].png"/>
          <p:cNvPicPr/>
          <p:nvPr/>
        </p:nvPicPr>
        <p:blipFill>
          <a:blip r:embed="rId7"/>
          <a:stretch/>
        </p:blipFill>
        <p:spPr>
          <a:xfrm>
            <a:off x="1066680" y="3505320"/>
            <a:ext cx="1714680" cy="17143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5" descr="C:\Documents and Settings\afloyd\Local Settings\Temporary Internet Files\Content.IE5\O58HI345\MCj03970360000[1].wmf"/>
          <p:cNvPicPr/>
          <p:nvPr/>
        </p:nvPicPr>
        <p:blipFill>
          <a:blip r:embed="rId8"/>
          <a:stretch/>
        </p:blipFill>
        <p:spPr>
          <a:xfrm>
            <a:off x="7772400" y="2133720"/>
            <a:ext cx="1023840" cy="990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6" descr="C:\Documents and Settings\afloyd\Local Settings\Temporary Internet Files\Content.IE5\0ZTJUMNT\MCj04347860000[1].png"/>
          <p:cNvPicPr/>
          <p:nvPr/>
        </p:nvPicPr>
        <p:blipFill>
          <a:blip r:embed="rId9"/>
          <a:stretch/>
        </p:blipFill>
        <p:spPr>
          <a:xfrm>
            <a:off x="4800600" y="68580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9" descr="C:\Documents and Settings\afloyd\Local Settings\Temporary Internet Files\Content.IE5\104NLPOT\MCDD01732_0000[1].wmf"/>
          <p:cNvPicPr/>
          <p:nvPr/>
        </p:nvPicPr>
        <p:blipFill>
          <a:blip r:embed="rId10"/>
          <a:stretch/>
        </p:blipFill>
        <p:spPr>
          <a:xfrm>
            <a:off x="228600" y="2590920"/>
            <a:ext cx="682560" cy="2428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3" descr="C:\Documents and Settings\afloyd\Local Settings\Temporary Internet Files\Content.IE5\C58NCVWF\MPj04481040000[1].jpg"/>
          <p:cNvPicPr/>
          <p:nvPr/>
        </p:nvPicPr>
        <p:blipFill>
          <a:blip r:embed="rId11"/>
          <a:srcRect l="6681" t="17778" r="13195" b="11113"/>
          <a:stretch/>
        </p:blipFill>
        <p:spPr>
          <a:xfrm>
            <a:off x="4952880" y="4191120"/>
            <a:ext cx="1828800" cy="2438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7" descr="C:\Documents and Settings\afloyd\Local Settings\Temporary Internet Files\Content.IE5\0ZTJUMNT\MPj03995510000[1].jpg"/>
          <p:cNvPicPr/>
          <p:nvPr/>
        </p:nvPicPr>
        <p:blipFill>
          <a:blip r:embed="rId12"/>
          <a:srcRect l="6110" t="4878" r="14527" b="38969"/>
          <a:stretch/>
        </p:blipFill>
        <p:spPr>
          <a:xfrm>
            <a:off x="7086600" y="3352680"/>
            <a:ext cx="1981080" cy="17528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9" descr="C:\Documents and Settings\afloyd\Local Settings\Temporary Internet Files\Content.IE5\H7RF1L0E\MPj03140390000[1].jpg"/>
          <p:cNvPicPr/>
          <p:nvPr/>
        </p:nvPicPr>
        <p:blipFill>
          <a:blip r:embed="rId13"/>
          <a:srcRect l="54774" t="3055" r="35935" b="72524"/>
          <a:stretch/>
        </p:blipFill>
        <p:spPr>
          <a:xfrm>
            <a:off x="2286000" y="5257800"/>
            <a:ext cx="685800" cy="12193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5" descr="C:\Documents and Settings\afloyd\Local Settings\Temporary Internet Files\Content.IE5\0ZTJUMNT\MPj04422390000[1].jpg"/>
          <p:cNvPicPr/>
          <p:nvPr/>
        </p:nvPicPr>
        <p:blipFill>
          <a:blip r:embed="rId14"/>
          <a:stretch/>
        </p:blipFill>
        <p:spPr>
          <a:xfrm>
            <a:off x="6858000" y="5257800"/>
            <a:ext cx="1981080" cy="1432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8" descr="C:\Documents and Settings\afloyd\Local Settings\Temporary Internet Files\Content.IE5\UTNW1CZY\MCj02909490000[1].wmf"/>
          <p:cNvPicPr/>
          <p:nvPr/>
        </p:nvPicPr>
        <p:blipFill>
          <a:blip r:embed="rId15"/>
          <a:stretch/>
        </p:blipFill>
        <p:spPr>
          <a:xfrm>
            <a:off x="4343400" y="2133720"/>
            <a:ext cx="1685880" cy="1255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3" descr="C:\Documents and Settings\afloyd\Local Settings\Temporary Internet Files\Content.IE5\0ZTJUMNT\MCj02790240000[1].wmf"/>
          <p:cNvPicPr/>
          <p:nvPr/>
        </p:nvPicPr>
        <p:blipFill>
          <a:blip r:embed="rId16"/>
          <a:stretch/>
        </p:blipFill>
        <p:spPr>
          <a:xfrm>
            <a:off x="3200400" y="5257800"/>
            <a:ext cx="1523880" cy="1398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4" descr="C:\Documents and Settings\afloyd\Local Settings\Temporary Internet Files\Content.IE5\WB7BI4D1\MCj01126580000[1].wmf"/>
          <p:cNvPicPr/>
          <p:nvPr/>
        </p:nvPicPr>
        <p:blipFill>
          <a:blip r:embed="rId17"/>
          <a:stretch/>
        </p:blipFill>
        <p:spPr>
          <a:xfrm>
            <a:off x="914400" y="1905120"/>
            <a:ext cx="1676520" cy="1349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5" descr="C:\Documents and Settings\afloyd\Local Settings\Temporary Internet Files\Content.IE5\OIKA2A7Z\MC900333162[1].wmf"/>
          <p:cNvPicPr/>
          <p:nvPr/>
        </p:nvPicPr>
        <p:blipFill>
          <a:blip r:embed="rId18"/>
          <a:stretch/>
        </p:blipFill>
        <p:spPr>
          <a:xfrm>
            <a:off x="2819520" y="4038480"/>
            <a:ext cx="1089000" cy="1150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7" descr="C:\Documents and Settings\afloyd\Local Settings\Temporary Internet Files\Content.IE5\A2D6VVDY\MC900436053[1].wmf"/>
          <p:cNvPicPr/>
          <p:nvPr/>
        </p:nvPicPr>
        <p:blipFill>
          <a:blip r:embed="rId19"/>
          <a:stretch/>
        </p:blipFill>
        <p:spPr>
          <a:xfrm>
            <a:off x="228600" y="5105520"/>
            <a:ext cx="1838160" cy="16030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8" descr="C:\Documents and Settings\afloyd\Local Settings\Temporary Internet Files\Content.IE5\P6EY3WO3\MC900013331[1].wmf"/>
          <p:cNvPicPr/>
          <p:nvPr/>
        </p:nvPicPr>
        <p:blipFill>
          <a:blip r:embed="rId20"/>
          <a:stretch/>
        </p:blipFill>
        <p:spPr>
          <a:xfrm>
            <a:off x="4191120" y="3581280"/>
            <a:ext cx="963360" cy="17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3-Dimensional Shape So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28600" y="1371600"/>
          <a:ext cx="8763120" cy="4898880"/>
        </p:xfrm>
        <a:graphic>
          <a:graphicData uri="http://schemas.openxmlformats.org/drawingml/2006/table">
            <a:tbl>
              <a:tblPr/>
              <a:tblGrid>
                <a:gridCol w="1752480"/>
                <a:gridCol w="1752840"/>
                <a:gridCol w="1639800"/>
                <a:gridCol w="1941480"/>
                <a:gridCol w="1676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l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tangular Pr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5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6" name="Picture 24" descr="C:\Documents and Settings\afloyd\Local Settings\Temporary Internet Files\Content.IE5\104NLPOT\MPj04388070000[1].jpg"/>
          <p:cNvPicPr/>
          <p:nvPr/>
        </p:nvPicPr>
        <p:blipFill>
          <a:blip r:embed="rId1"/>
          <a:srcRect l="21736" t="0" r="26088" b="0"/>
          <a:stretch/>
        </p:blipFill>
        <p:spPr>
          <a:xfrm>
            <a:off x="2286000" y="2438280"/>
            <a:ext cx="914400" cy="13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3-Dimensional Sha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9903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Find pictures or clip art of each shap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Add them to the chart below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28600" y="2470320"/>
          <a:ext cx="8610480" cy="385416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611360"/>
                <a:gridCol w="1906560"/>
                <a:gridCol w="1647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l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tangular Pr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3-Dimensional Shape H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9903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Find examples of each shape at home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050"/>
                </a:solidFill>
                <a:latin typeface="Calibri"/>
              </a:rPr>
              <a:t>List the examples on the ch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28600" y="2514600"/>
          <a:ext cx="8610480" cy="385452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611360"/>
                <a:gridCol w="1906560"/>
                <a:gridCol w="1647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l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tangular Pr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alibri"/>
              </a:rPr>
              <a:t>3-Dimensional Shape Hu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9036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Find examples of each shape at school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7030a0"/>
                </a:solidFill>
                <a:latin typeface="Calibri"/>
              </a:rPr>
              <a:t>List the examples on the chart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228600" y="2514600"/>
          <a:ext cx="8610480" cy="3854520"/>
        </p:xfrm>
        <a:graphic>
          <a:graphicData uri="http://schemas.openxmlformats.org/drawingml/2006/table">
            <a:tbl>
              <a:tblPr/>
              <a:tblGrid>
                <a:gridCol w="1722600"/>
                <a:gridCol w="1722240"/>
                <a:gridCol w="1611360"/>
                <a:gridCol w="1906560"/>
                <a:gridCol w="16477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ylind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he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ub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ctangular Pris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7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eflection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3-dimensional shapes                        were easier to find?  Why do                           you think it was easier to find               examples of these shap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shapes were the most difficult to find?  Why do you think it was harder to find examples of these shape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C:\Documents and Settings\afloyd\Local Settings\Temporary Internet Files\Content.IE5\6TCFAPSX\MCj03553610000[1].wmf"/>
          <p:cNvPicPr/>
          <p:nvPr/>
        </p:nvPicPr>
        <p:blipFill>
          <a:blip r:embed="rId1"/>
          <a:stretch/>
        </p:blipFill>
        <p:spPr>
          <a:xfrm>
            <a:off x="5943600" y="770040"/>
            <a:ext cx="1766880" cy="182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5T18:54:38Z</dcterms:created>
  <dc:creator>Ana Flyod</dc:creator>
  <dc:description/>
  <dc:language>en-US</dc:language>
  <cp:lastModifiedBy>afloyd</cp:lastModifiedBy>
  <dcterms:modified xsi:type="dcterms:W3CDTF">2012-12-19T21:58:52Z</dcterms:modified>
  <cp:revision>6</cp:revision>
  <dc:subject/>
  <dc:title>Geometry Assessment</dc:title>
</cp:coreProperties>
</file>